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BF8-48CE-4F3E-AB66-47FD41E9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CF22-D43E-413F-897F-D0DAB32D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2142-825F-4855-B1CA-A5AB3454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8D4-0953-4A44-9B00-733C5022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51B-F55A-4147-B767-6C6EAADA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F39-64D2-4EAB-AC98-8800308B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974-73FC-4F01-A68E-38FEFF67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3E1-FB38-4050-8BB8-52057A5B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336-DAB5-43D1-967B-42FAE1A3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180-CA12-48DE-A304-2ACB6379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A82-0837-4FA3-9782-E599582C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875B-B1A4-41DC-8532-CCF8E42C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F608-DB72-43C8-8AC2-1F3FC1F53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45118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2:54:17Z</dcterms:created>
  <dc:creator>2012Payneja</dc:creator>
  <dc:description/>
  <dc:language>en-US</dc:language>
  <cp:lastModifiedBy>2012Payneja</cp:lastModifiedBy>
  <dcterms:modified xsi:type="dcterms:W3CDTF">2009-11-05T13:22:08Z</dcterms:modified>
  <cp:revision>3</cp:revision>
  <dc:subject/>
  <dc:title>Slide 1</dc:title>
</cp:coreProperties>
</file>